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type.wav" ContentType="audio/x-wav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5EA-5DEE-4106-882F-6F182C89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6DF-0D48-4055-82FE-B682C977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F27-7C8A-4214-8AB9-3B12BD98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F8D-39AA-4E03-8C94-982D92DB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8F9-D452-4802-9660-037174E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258-5B8B-42A9-9E6F-C618D537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6EC-77D6-4E63-A1A8-BD4D6EFE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5A2-4B3D-4247-890D-6405E0C3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EE7-C78C-4C01-BBE4-1628368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FF0-5A6C-4ACC-8F05-2AEA381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2FE-F91B-42B3-93E4-AD89194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E48-9253-4EA0-A9A7-CB686279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4FEC-E327-4923-918B-A83853C9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zink.ru/download/YTo0OntzOjM6InVybCI7czo5MDoiaHR0cDovL2Rvd25sb2FkLmR6aW5rLnJ1LzE4MTUvMjMyMzgzODUvMi9hOWY3NmYxMzc3MGMvZHppbmsucnUtZml6a3VsdHVyYV93aXRjaF9kb2N0b3IubXAzIjtzOjY6ImFydGlzdCI7czoyMjoi0YT" TargetMode="External"/><Relationship Id="rId2" Type="http://schemas.openxmlformats.org/officeDocument/2006/relationships/hyperlink" Target="http://dzink.ru/download/YTo0OntzOjM6InVybCI7czo5MDoiaHR0cDovL2Rvd25sb2FkLmR6aW5rLnJ1LzE4MTUvMjMyMzgzODUvMi9hOWY3NmYxMzc3MGMvZHppbmsucnUtZml6a3VsdHVyYV93aXRjaF9kb2N0b3IubXAzIjtzOjY6ImFydGlzdCI7czoyMjoi0YT" TargetMode="External"/><Relationship Id="rId3" Type="http://schemas.openxmlformats.org/officeDocument/2006/relationships/hyperlink" Target="http://dzink.ru/download/YTo0OntzOjM6InVybCI7czo5MDoiaHR0cDovL2Rvd25sb2FkLmR6aW5rLnJ1LzE4MTUvMjMyMzgzODUvMi9hOWY3NmYxMzc3MGMvZHppbmsucnUtZml6a3VsdHVyYV93aXRjaF9kb2N0b3IubXAzIjtzOjY6ImFydGlzdCI7czoyMjoi0YT" TargetMode="External"/><Relationship Id="rId4" Type="http://schemas.openxmlformats.org/officeDocument/2006/relationships/hyperlink" Target="http://dzink.ru/download/YTo0OntzOjM6InVybCI7czo5MDoiaHR0cDovL2Rvd25sb2FkLmR6aW5rLnJ1LzE4MTUvMjMyMzgzODUvMi9hOWY3NmYxMzc3MGMvZHppbmsucnUtZml6a3VsdHVyYV93aXRjaF9kb2N0b3IubXAzIjtzOjY6ImFydGlzdCI7czoyMjoi0YT" TargetMode="External"/><Relationship Id="rId5" Type="http://schemas.openxmlformats.org/officeDocument/2006/relationships/hyperlink" Target="http://dzink.ru/download/YTo0OntzOjM6InVybCI7czo5MDoiaHR0cDovL2Rvd25sb2FkLmR6aW5rLnJ1LzE4MTUvMjMyMzgzODUvMi9hOWY3NmYxMzc3MGMvZHppbmsucnUtZml6a3VsdHVyYV93aXRjaF9kb2N0b3IubXAzIjtzOjY6ImFydGlzdCI7czoyMjoi0YT" TargetMode="External"/><Relationship Id="rId6" Type="http://schemas.openxmlformats.org/officeDocument/2006/relationships/hyperlink" Target="http://dzink.ru/download/YTo0OntzOjM6InVybCI7czo5MDoiaHR0cDovL2Rvd25sb2FkLmR6aW5rLnJ1LzE4MTUvMjMyMzgzODUvMi9hOWY3NmYxMzc3MGMvZHppbmsucnUtZml6a3VsdHVyYV93aXRjaF9kb2N0b3IubXAzIjtzOjY6ImFydGlzdCI7czoyMjoi0YT" TargetMode="External"/><Relationship Id="rId7" Type="http://schemas.openxmlformats.org/officeDocument/2006/relationships/hyperlink" Target="http://smiles.33b.ru/smile.bereich0_128_60.html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119700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ездочё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63700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"/>
              </a:rPr>
              <a:t>Электронная физмину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3" name="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1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1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10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1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10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8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1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1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1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9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10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69" name="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2" name="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5" name="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78" name="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81" name="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4" name="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7" name="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90" name="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3" name="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6" name="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82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8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99" name="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294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95640" y="3068640"/>
            <a:ext cx="870120" cy="74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403280" y="3141720"/>
            <a:ext cx="865080" cy="77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4360" y="620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Берегите свое здоров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64720" y="83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877080" y="285264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3141720"/>
            <a:ext cx="73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zink.ru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ownload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YTo0OntzOjM6InVybCI7czo5MDoiaHR0cDovL2Rvd25sb2FkLmR6aW5rLnJ1LzE4MTUvMjMyMzgzODUvMi9hOWY3NmYxMzc3MGMvZHppbmsucnUtZml6a3VsdHVyYV93aXRjaF9kb2N0b3IubXAzIjtzOjY6ImFydGlzdCI7czoyMjoi0Y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4922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Музыкальное 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69600" y="4149720"/>
            <a:ext cx="5430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"/>
                <a:hlinkClick r:id="rId7"/>
              </a:rPr>
              <a:t>http://smiles.33b.ru/smile.bereich0_128_60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422100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"/>
              </a:rPr>
              <a:t>(Стр. 3, 16  Анимашки Де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95640" y="1131480"/>
            <a:ext cx="1369800" cy="1356120"/>
            <a:chOff x="4895640" y="1131480"/>
            <a:chExt cx="1369800" cy="1356120"/>
          </a:xfrm>
        </p:grpSpPr>
        <p:sp>
          <p:nvSpPr>
            <p:cNvPr id="112" name=""/>
            <p:cNvSpPr/>
            <p:nvPr/>
          </p:nvSpPr>
          <p:spPr>
            <a:xfrm>
              <a:off x="5076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241600">
              <a:off x="5076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User</cp:lastModifiedBy>
  <dcterms:modified xsi:type="dcterms:W3CDTF">2010-09-13T10:12:29Z</dcterms:modified>
  <cp:revision>22</cp:revision>
  <dc:subject/>
  <dc:title>Слайд 1</dc:title>
</cp:coreProperties>
</file>